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FA9-D698-401C-AB1F-BD657264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AE1-8C29-427C-966B-ED119B1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F41A-EC98-4007-9B29-C9BCF0FD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4CE0-44E5-492B-8D07-EAF836E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35F4-8744-4311-80D6-090D3CA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07F89-8CAB-4B2B-925B-C233B4F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150F0-BEBB-480E-9314-9E275AE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17CC6-B0DF-4CE7-86A8-892CAD32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3EAF-97F1-4F12-AF1C-3EDA8092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5471C-72BD-40B9-B468-2E21BD31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D9C2-059E-4E3E-B419-98769516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5158D-1B49-4218-9446-BB98ECFF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011-2A6B-49DD-81F1-E2A42131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82534-65C5-4489-A53B-4F677847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BC484-F64F-4641-8DAE-43F4F7C0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04B1C-A4ED-496E-9368-D5EC0622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6E2AA-EB73-4C6F-A105-228FAAB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C7127-41D3-43E6-98C8-F419AAA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91558-AF72-40DB-9B48-CEE655A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6FEF-1F67-4D92-BE49-93E53BD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79683-8595-4B6A-9201-EA54890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03545-C1B2-4409-AD20-CE125EF3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13FB1-4D1B-4385-B71F-1D7A74F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931-8F94-4F1E-831A-86EA06FE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F9AA-E37D-49DE-B12B-59CC71DF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B9F1-91A6-4FCE-A18D-D105777D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4CD3-37E5-4C04-BEEC-0E733F3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A4362-7F6F-4C6A-A59F-7621468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FBD5A-774F-4EDA-9D63-0E2CB87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0E6EC-7F59-4B0D-8DFC-D4D0A46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3ECAE-039D-41EF-83B9-375E40C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5623E-44A6-4832-A023-4A482F0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FF9A-A925-44FF-A220-D5D0F03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FA17-FFE8-4206-B455-50DB7D9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5F2-49F2-48AE-A22C-F64E16D4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3F939-7423-4B72-8503-8C2775B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796FF-9445-4C7D-B97A-28755DF8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3E008-17CE-42CF-B402-12C716C4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EB9D3-B5DA-4A81-884B-23BE14FA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EA35E-0B5D-4840-A840-5F01EA3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23D3A-14E5-4ECD-9726-58220B0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11DE7-1DD5-4ED4-9B10-44DEA124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6D6F4-587C-4087-98DE-2AA0FC0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27771-8554-43F5-B100-8A936B2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24D44-8F5B-49BA-A5EB-2EA93CA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7C0-D44F-4CCE-B111-673F88A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AC27-1450-41E0-81CA-731EFF5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62EF8-A510-4613-8D3C-4CE2C6D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8D837-0256-487E-9BBB-C573A27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D57E-E5D5-40B0-975D-6CBAA7D6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B468-B3F1-42D0-B384-59CD7D62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EBC2D-5E48-4B36-B91F-8CC1B98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FC88A-0553-4C53-913C-B9A7B100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32909-0DB2-4A88-8B5A-099F5F2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DF7A7-BBF4-42D2-89CB-B446427A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41280-A847-4D6A-9DE6-8485AB9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56F-98F1-4754-AA6F-F88B412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F616D-079B-4005-AE72-C942F65B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13AB4-6C73-421A-9455-AF871C9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0BE88-9AC2-44CD-9DAF-6B61CD3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59C3B-755B-41AD-90F9-3C29010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DC128-ECC0-441F-AE99-FA76E81A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A44EE-A410-4253-9EA5-6672138E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C6F13-AACF-44EF-ACA9-BAE4D1AF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6A013-AE25-4298-891F-3ECF92C7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63172-20BC-4533-9C10-CC0B354F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0F3CF-65A3-4593-BB89-BBFF491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2E5-8AD3-41F0-924B-392E3FE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075C1-F205-422D-A621-DCFC9FC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7B085-536F-4129-8B7A-63D1E1B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26EA6-8983-4047-9D0F-1B281ADE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08EDB-48F2-4954-90C3-2BE3EEF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D8FBE-A95A-4243-BFA1-4885D29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578D7-B044-4759-8D78-A53E6F27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41A76-974A-4A1F-95A7-28EAEE11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5B3DB-9070-4CEA-8578-466BCCBA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45526-793F-466D-BF04-68DDBC13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6D78C-61D7-4B3D-B42F-4633FD9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3ABF-0897-4C74-8F53-C795C1C5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0413F-660A-4FE8-A66F-C27D629D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CBA62-9D2D-415E-85B5-6BF9FEE5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410FD-008D-4AA2-9F49-34F1759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DCB6F-C104-4207-BDF9-DA57903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057DF-39A4-4FF2-B1A8-F1E4472B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63CCF-9081-460F-8308-46BC6E9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EDDD9-7E45-4C0D-B58D-876FF2B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A1BA3-BBB0-4D52-B1B8-6CB1FEA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31CB3-37B3-4089-BB90-360D55F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CD8D4-3B89-4980-B180-E52F2A82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79B-65A1-4183-B938-751A388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CF6CF-E2BC-4E84-BE66-8A5E73C4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9CC74-FC95-42F2-8C48-748D63AE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4B3C6-39A8-4CF5-A4C8-B51D19CB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C3A9F-FB28-4D6C-9CC6-C52ADBB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21817-080E-456F-8040-563BB03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63D35-74E1-4F8A-9F04-9BB1286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86FB8-A282-4838-8572-D689A42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87F16-C30F-43A7-808F-A38BBF6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69E30-E487-4E1B-926C-26D9B20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28B1E-372F-4F74-9E48-E6CA275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DF5-B313-4C53-97EA-E5107C2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AD23F-BDF3-4805-909A-40C25FF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ADDD7-C3D0-49DF-BC1F-1D4F6692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9900A-8C2C-4FF4-A22F-53DDD03E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7B6F3-D7D3-40D5-905C-BFE872C3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5FEF3-83DB-4AC0-98AC-E1C1D777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E9262-ED54-4788-9253-6067B22A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7DF95-A36C-4F75-95F8-BCFC435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20A1E-7DF4-47EA-B23C-B4D37F1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24911-5A34-4653-892A-3C2DA2E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0FB04-447C-41D7-AD56-2F93720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919-1F75-44C5-BD90-9FE4D1B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336-44C0-492B-97ED-A58D429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E6D93-1CEC-415E-9083-B4B72453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332EE-0D0B-4D53-9ECB-1EBCC26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94A32-E873-4116-88E8-3045D7E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1A82C-2CF4-43CB-A91E-5CE32A07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54191-95E0-4349-A48D-CFD810FA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013F2-57E2-4388-81B9-A75C249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4FE62-F1D8-47AC-9019-A66BA0DE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D9EC4-8942-42BC-A9AE-13B5BFF7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3FEB8-D526-4322-B8E8-9DCB032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ECCA1-AF6D-4234-88CC-0F98D870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7D9-360D-4FE2-A180-E319874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615F6-CC66-4A87-BA87-8227478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CCAC1-184A-4A34-B8E3-5F0FE36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A3124-80CD-4A25-91F8-EEE92A2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5F316-3AC6-404A-966D-8242C47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957B27-E4B5-422A-B97B-126DB24E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9EE6E-B31D-48A6-A20C-0F6DCC00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FA0F3-94D9-43E1-A5B0-8ED576E7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104A3-F453-404D-A41D-BDE28384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4BA4C-4DE8-4EF9-97DB-1E0D772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855C4-E476-49B5-94DB-F763DB3D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DED-2CDA-4846-9126-BAC9917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334C7-5DFA-4AF6-B4DD-64A1BF0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909CA-45E6-48A7-831B-43C9CF3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6A1DA-8F13-4274-9827-62ED97C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4CF67-D768-41F2-A910-7801D1B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1DD73-5D5D-4BC6-B89B-83BF07F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B211F-9B7C-461B-B4D8-E869913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2D037-8CD5-4EFA-8275-C3DEB03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F3C09-57B0-44F1-8D6E-6525BE2E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41BDD-6A3E-412C-A708-1A681B30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D0572-3EAC-4C25-94B4-F1F8D67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F647-B85B-4637-9F19-6613B4B6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9F99E-2AFB-4D36-B73D-761C840D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EE8D7-9B7E-4081-A80C-0EC18C9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21673-0708-4410-8BEE-41F8B8E6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C4A58-BF51-4D13-9D24-E7C1BDD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AAEDE-F2CA-4746-9886-6E52EB63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918F8-1B79-4123-A7FF-B172558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7A7FF-4F2C-40A3-8EF5-BD63C16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0E624-7158-49BD-995E-1DF7928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D66DC-0316-4CE3-B333-204E0297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6597E-EA75-4D8B-8EE7-0BEF6F59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748-922F-4D83-9156-37E815DA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3D3963-1216-4B56-A01D-EFFB64BC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04126-BF88-4068-803A-563D6E45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CFE49-AEE0-41BE-9D38-33F91717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7F916-2E88-4927-92FB-D1BE358C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7A29D-9386-44B7-8915-DE86535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9076F-2E3E-490D-95F8-4FD75AD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74C38-175E-4127-A86E-407D8E19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D25AA-BEF3-4ABD-B755-2727CDA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46798B-7484-45B2-8DF2-727454B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9F56F-1E30-4F12-852C-2831E6D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90EA-10C2-4B07-97BE-B6C483E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402D4-E42D-4491-9BC0-6321FB6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3C890-DB56-4DB1-9C5D-26C9031A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1E2B8-376E-4028-BA2C-AE0EB22E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0009-B1B7-4ACA-913A-C615B35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7E5F-F803-4C26-AAC8-5C72C0BC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B1D3-9EFD-4B06-8893-4169548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A2D8-DCB2-41BC-A667-5961767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8A4-3E9E-4A7A-9918-C33D93A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627D-25F1-4FEC-A885-8F8E813F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8E0A-8274-493A-A629-9D7D0C4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B18C-1B71-499C-83D2-7C50E4D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3A55-2D41-473E-A364-E1EF7D7C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8B21-D5AC-4A6A-8A55-D3E3925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C54F-A219-4414-86D2-EB09C06E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B212-414B-42BB-8D3C-2C8D0C9D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A01F-B08D-4A0B-B26A-E86FE644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837A-B35E-4034-B7FA-C2E0A17B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94FC-94DF-496B-979D-3CB8A2B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83F-3FF7-4B72-BB0F-0CCC964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1FB6-0876-415A-AFA9-6BFBDD2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8F9F5-0C7C-46DE-9C1A-8BD79430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CEAA-B97E-486D-BD44-89559A6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0DFF-45AD-445F-8845-5451E9D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B5B1-1151-45ED-A173-39B9826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126D-B1F3-440B-AD9F-D5AD9FEB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CA40-5E86-439D-8F6E-F7209B5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6C37-E778-4956-8E84-D41EF772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9FCE-3635-43BC-B641-DB3068A5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F727-A5DF-4A93-9542-B14520BF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C69-48BD-404F-A5FA-9B704A0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731B-047B-492C-8BF1-D0466C5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58F8-4B5F-4C38-9A28-7BB7B65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AF995-9535-4044-B1A8-D22B6D99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8E06-F8C6-4327-A47C-D90A0F2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9657-2497-4077-83FB-53B0260D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1ADA-FFC1-43F5-9CBF-1CFB142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5DF2-8637-479D-9697-58BB98E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1584-3200-48B2-9931-4EACE7B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44DFC-C536-4A95-9719-1950D45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8B8E-0A80-48F2-9F06-CE2CF3AB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1F1-1760-49EA-BC82-FAFE2A9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7C51-6340-466C-BCC8-7C5DA4B6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ACD8-5E55-40EB-9C93-228103FB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F273B-B412-42C2-8DD9-CA151BBE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368C7-538E-422A-A3B3-94973BCF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C105-3F62-4BEF-898C-24EBCA60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E2AF-3C06-4B7D-B9F6-8474C404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CE58-08A8-4792-95E5-3C8597E1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F4F68-53B6-4FA8-A25B-48271D4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79C87-E0BB-42B5-AF08-17CCDFB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B196-AD3C-439D-9C24-E301AA0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19C-2369-4D74-A879-BEE67FF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46A9-F60C-4D8A-8920-019733F2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0600-825D-47D7-942F-64BDC8D9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5F70-0AF7-4A9F-BC32-5DE4363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1352-51EA-4E12-8AF9-F81EC88E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036A-E9DE-41EA-9516-D12803B3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074C3-640E-48A8-AA2B-F1B4C9AF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F712-53F5-4D16-8CFE-6DBB63B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3BF2-5C62-46E2-814C-82D068C4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9EFC-0A1E-4289-A3CA-43689B8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2AF3-0875-4098-9CAE-5C09A91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2A3-15BB-49E4-9AB4-F7BB0F2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E795-C067-487F-ACB8-E11F0C7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FC822-9BD9-44F3-8F48-3D742E9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E582-6264-427B-98B9-BF37B0A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A6B4-8872-486D-960D-5E972BB7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607E7-41E5-48C9-9914-5E532494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41D63-F4A4-48E0-A383-F0D58ADC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7EEF0-D478-4405-BE1D-AB6BFF2A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0572-C671-4C6F-BD98-E3AE4A5C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4853-193F-498A-9786-2E17EF6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C2430-8014-455D-B5E5-39E10D96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C44-A5D5-4071-B00E-9726002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E78F-1063-43D8-8E8F-A11EB9F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FCEA0-F390-4615-9185-49BB175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7047-3A38-4FF5-A4EC-2E2A9FB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94F5-E538-43AE-B2FA-B94CA2B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C7280-BA85-4FF4-B868-31D4B0A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1D37-2D38-40C4-9082-87C31DEA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BFD6-68B5-481E-93B7-8BF643FA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48E05-E787-43E7-AFFD-22FE0036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FFB3-9FDE-4EC9-9662-1E8826C1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243AD-1807-402B-86E6-AB9AA468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1F0-F525-4D81-8F6A-71A93D31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FF3-519A-4EFC-ADC8-D9EB75DAA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14C-4F18-450F-A197-5BB0203E9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222-E05B-44E7-9C47-F6E8EFF57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EEE-AF7F-4A6E-B70E-81BDFE775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DEC-D453-42A0-8EEA-67F749AE9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DB3-ABFB-41FD-9AF9-4E4BBF181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527-78A5-48C6-9536-EE60F0E8A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FCD-672B-4325-B4AD-52ECABB39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5AE8-98E0-439D-946F-16F6E72FC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BA2-918A-40AD-810A-736C8A9AEB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BB49-A3BE-4E75-956F-CC0B12317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A05E-5158-4AEF-B91F-C11BD4CBC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B2A5-3D91-4A76-A1AC-0FFC95012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7D04-1CF4-40A6-9195-168775450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020-9002-4599-8F42-D5E42C37B2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6B3E-62AB-4771-8A28-52E82CC9B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F74-9D2C-47F2-BF59-6856CBC76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767-42C3-4678-9182-B90E58241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2D7-FFBA-4D3E-862B-2F5C4E857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2A77-3B42-4DDC-87F0-C2F3C5B2A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7BA2-B40A-4E12-AB4E-35744998D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1595-685E-4F40-A83F-4E62E691A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178-D277-4195-9D8E-EF928A113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5E8-6C26-4C25-907A-F28692652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2899-1F01-4AF8-A2FD-75008B740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01B-2AA0-421B-B481-1E69C023E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7AC1-066C-40B1-A8CC-04A610E79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EB8-4736-4FB3-B221-E11487E91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92D-1B88-43F0-AB40-2C79519FC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CE7-6C09-4D5B-B9BD-486686B3B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E4C-BE4E-4CF7-84FB-FF0AC11DA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0BEF-922C-424F-8924-B5AC4F3B2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01F-46BF-4759-A1E8-7FBC0877B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A237-845E-4B70-AD87-4000081BD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94AD-FE03-4593-AAA6-6BAA179FC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24F-9063-44F7-8151-B1DFE3DBA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D6F-213B-4004-BD19-853F7BA8DA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806-08A0-488D-AE0B-F53138F640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478-4E9A-460E-AFF6-CDAFB3B07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133640" y="3043080"/>
            <a:ext cx="687672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1052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21472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3500280"/>
            <a:ext cx="571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928800" y="51436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409680" y="985680"/>
            <a:ext cx="8324640" cy="488664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857160" y="10000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857160" y="414324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182080" cy="148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571680" y="2571840"/>
            <a:ext cx="8248320" cy="34956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3643200" y="1571760"/>
            <a:ext cx="1500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3357720" y="2536920"/>
            <a:ext cx="1500120" cy="388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6572160" y="3429000"/>
            <a:ext cx="178596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2428920" y="4786200"/>
            <a:ext cx="2000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4714920" y="5214960"/>
            <a:ext cx="2071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80960" y="1190520"/>
            <a:ext cx="8182080" cy="44769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3949560" y="2085840"/>
            <a:ext cx="15004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6143760" y="20718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4214880" y="342900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6643800" y="3429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2857680" y="4821120"/>
            <a:ext cx="1143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4508640" y="4780080"/>
            <a:ext cx="1420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76280" y="1676520"/>
            <a:ext cx="8191440" cy="35049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1582560" y="3008160"/>
            <a:ext cx="78588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2760840" y="2951280"/>
            <a:ext cx="1357200" cy="431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4143240" y="435780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6500880" y="435780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219880" cy="561960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1785960" y="2928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1714680" y="4286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1714680" y="56437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53280" cy="475272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1714680" y="1500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1714680" y="2357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0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